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DCF-6FE4-4265-82E9-232E713F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AED-4805-43BE-8965-D426DDF8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0D24-BAB7-42C4-92BA-D48ED6C8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994-4B73-4E10-AF3A-6CEEE00A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FBF0-B621-48A4-B469-CAB3BC93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7442-66C5-4012-9F85-66EAACE9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2159-0A6F-4FCC-9811-9AF131ED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A691-37A4-49D8-B1FD-7EB1D1BD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D8FA-1120-46D0-9C93-91B990D6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DC4E-798F-4BDB-B628-EA2EDC2A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D359-2825-4007-A17F-B0DB09E8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C9CD-342B-4DE5-8516-48536621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DF77-E587-4362-8BDD-5F879FEB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2714-E8F8-40C9-9545-734D95B8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CD18-AE09-4479-9CD7-89F75566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D74E-12A4-4E8F-81CE-34AED445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C50C-BA6E-4B25-A8E8-885CBA5F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3A0C4-E2C1-4300-8B14-39F4CFCD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4A7B3-C7E5-4520-A29F-23679A33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53064-1D2C-4234-8355-6A3F067C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75E16-DF81-431A-9DFB-9340E6D0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6637E-0C36-4B9E-B5F8-7C9EC1C8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5DA-20DD-4F50-952C-47A5C2DE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D6738-3CDD-4A58-862D-2130B6AF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BBA20-1E63-4777-B353-EAC9EFB8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4E75E-11F9-4F92-98CE-0E02765B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14B74-E278-4289-8D77-6412A1F5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E1078-CA36-42D2-83ED-7C554C6D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66B95-DB12-4ACD-9D78-D72B144C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A993D-C9CA-471B-BE62-72035E14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9EEA5-BAAE-43DB-B136-D29AFE0A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8E586-DDDC-47D0-901D-168339C9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8A180-B0C0-414E-9B82-8FAE33C2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6B7-5C86-41FD-9617-11E242C4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F1828-AA10-4A11-B6E9-0C452678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B7C36-19A1-4A43-AF1D-23E23972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F28C7-BB24-4266-AFC0-9E4EA975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4CE85-C7C9-4FC0-8129-F6FC60F0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40675-0A50-42B7-8A15-4783963D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53BED-46CF-446F-B1F4-9EC53CC9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DEC7B-7704-4BB8-B56B-282A9812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4DDBD-4666-47FB-9696-E415EB92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64701-C9EE-42F5-A764-99BC8F9A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A773B-665C-44E9-9772-E43746B0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94E9-7CAA-433F-B599-C507ECBF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05421-1844-4165-B4A3-A17CEC69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50E5C-79C4-406C-955F-E26BE370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D26B9-C13E-4906-A07D-9F4F910E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BE6EF-48C7-48B0-B96B-2F3E94FE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D873A-EB11-496A-AE78-0E67A50F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6FBBC-F112-4ACA-9A87-42C4BBEC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5BA1B-A186-4896-832A-67510DEB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64BB5-79E6-4752-9A7E-C6BBC73A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45243-77F8-40B6-B03B-225E592B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1D4E5-BE9C-4CCF-8AE3-FA731588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442-EF0A-4BA5-87A1-B17B4AC8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E6214-F75C-47C2-918F-B29E72B5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C3E0C-CEE7-4479-B582-AD5FB1B0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C853B-5E9B-4A88-A163-4AC22636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4A468-A6D3-427D-A971-F878523B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CF6CE-5480-4543-99B7-98DDE209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61604-6752-46C6-A8F4-8CB7037D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FCAFA-1EFF-4DF7-A622-612717AF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225B2-19AD-4686-A24F-B1A7BB1F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D87FE-8E25-4801-8485-5443A3BF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44028-307D-4BAE-B0C9-DEC6A210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F78-FAF0-44B2-AF0B-DF6BD0D3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27BF2-5CD3-45D5-9C77-926D627B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5239A-7FFE-4EE7-809A-F07EB4D1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01A01-8282-4C77-A59A-40CD6AFD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61F3B-D9AA-4509-A3B6-7290E155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70F37-2D34-4FD9-BB2A-20510E0F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1E7B6-9CB3-48CA-88F5-5FA873F2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55950-DF32-4D2E-9042-EB58F7A8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8C975-A4F9-4555-B479-3E78065A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6AEEB-8614-4A2A-8178-62C060A1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7F9FE-8C0A-447B-8347-0A132E75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EF2-DC4B-49F4-99AA-2AA07366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28B72-D3F0-4014-BAF5-C98D762B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38D0B-42F1-4D24-BECA-4B9B4514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D52D9-43A2-47B1-8927-27DEAA9C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90508-790C-4218-BCC4-4672BB08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40157-2F23-4FAF-BEF2-F0D80465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79D0-0551-4743-BF04-3A92437D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657E-AAF9-4446-9454-FD82795CBE5C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052E-D6C1-4CB3-8E24-2A363D4D36E0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28D2-B0B0-40BE-A502-4A80C5CD4DE5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B6A3-D59B-4ADA-982B-7880C285A1A1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4C3A-1FC6-4503-A926-082B635AB860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4AF0-448A-4FEA-91AC-2B372A7619D9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A499-EB99-44D3-BFF4-73DE0FBBA6DD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mailto:cro@mail.orb.ru" TargetMode="External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78"/>
          <p:cNvSpPr/>
          <p:nvPr/>
        </p:nvSpPr>
        <p:spPr>
          <a:xfrm>
            <a:off x="8640720" y="3959280"/>
            <a:ext cx="3589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36" name="TextBox 1" descr=""/>
          <p:cNvPicPr/>
          <p:nvPr/>
        </p:nvPicPr>
        <p:blipFill>
          <a:blip r:embed="rId2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sp>
        <p:nvSpPr>
          <p:cNvPr id="337" name="Подзаголовок 2"/>
          <p:cNvSpPr/>
          <p:nvPr/>
        </p:nvSpPr>
        <p:spPr>
          <a:xfrm>
            <a:off x="3360600" y="5589720"/>
            <a:ext cx="56628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РЦОИ Самочеляев В.М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руководителя РЦОИ  Собченко Е.В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8" name="Заголовок 1"/>
          <p:cNvSpPr/>
          <p:nvPr/>
        </p:nvSpPr>
        <p:spPr>
          <a:xfrm>
            <a:off x="936720" y="1989000"/>
            <a:ext cx="74167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аботы апелляционной комиссии ГИА-9</a:t>
            </a:r>
            <a:endParaRPr b="0" lang="en-US" sz="4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9" name="TextBox 2"/>
          <p:cNvSpPr/>
          <p:nvPr/>
        </p:nvSpPr>
        <p:spPr>
          <a:xfrm>
            <a:off x="611280" y="1413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72" name="TextBox 2"/>
          <p:cNvSpPr/>
          <p:nvPr/>
        </p:nvSpPr>
        <p:spPr>
          <a:xfrm>
            <a:off x="395280" y="1268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3"/>
          <a:stretch/>
        </p:blipFill>
        <p:spPr>
          <a:xfrm>
            <a:off x="4680" y="2109960"/>
            <a:ext cx="9134640" cy="2638080"/>
          </a:xfrm>
          <a:prstGeom prst="rect">
            <a:avLst/>
          </a:prstGeom>
          <a:ln w="0">
            <a:noFill/>
          </a:ln>
        </p:spPr>
      </p:pic>
      <p:sp>
        <p:nvSpPr>
          <p:cNvPr id="374" name="TextBox 3"/>
          <p:cNvSpPr/>
          <p:nvPr/>
        </p:nvSpPr>
        <p:spPr>
          <a:xfrm>
            <a:off x="826920" y="5229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с в РЦОИ –в день подачи апелляции!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77" name="TextBox 2"/>
          <p:cNvSpPr/>
          <p:nvPr/>
        </p:nvSpPr>
        <p:spPr>
          <a:xfrm>
            <a:off x="468360" y="981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649440" y="1843200"/>
            <a:ext cx="798984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для членов АК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677880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677880"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ы АК должны помнить, что рассмотрение апелляции проходит в спокойной и доброжелательной обстановке. На заседании АК необходимо соблюдать этические нормы поведения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смотрении апелляции о нарушении Порядка члены АК должны: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677880"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 у ответственного секретаря АК информацию о дате, месте и времени рассмотрения апелляций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677880"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иться на заседание АК в назначенное время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677880"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иться с апелляцией о нарушении Порядка (форма ППЭ-02) и протоколом рассмотрения апелляции о нарушении Порядка (форма ППЭ-03)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677880"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апелляцию и определить соответствие изложенных в апелляции фактов и реальной ситуации в ППЭ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677880"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ести свое решение: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677880"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тклонении апелляции, если обстоятельства, изложенные в апелляции, признаны несущественными или не имеющими место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677880"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довлетворении апелляции, если факты, изложенные в апелляции, оказали существенное влияние на результаты ГИА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81" name="TextBox 2"/>
          <p:cNvSpPr/>
          <p:nvPr/>
        </p:nvSpPr>
        <p:spPr>
          <a:xfrm>
            <a:off x="468360" y="981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324000" y="1766880"/>
            <a:ext cx="87343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смотрении апелляции о несогласии с выставленными баллами члены АК должны: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 у ответственного секретаря АК информацию о дате, месте и времени рассмотрения апелляции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иться на заседание АК в назначенное время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иться с апелляционным комплектом документов, заключением привлеченного эксперта ПК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представленный апелляционный комплект документов и заключение привлеченного эксперта ПК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ести свое решение: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тклонении апелляции и сохранении выставленных баллов (отсутствие технических ошибок и (или) ошибок оценивания развернутых ответов (в том числе устных ответов)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довлетворении апелляции и перерасчете баллов (наличие технических ошибок и (или) ошибок оценивания развернутых ответов (в том числе устных ответов)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стоверить своей подписью протокол рассмотрения апелляции о несогласии с выставленными баллами (форма 2-АП) и приложения к протоколу (форма 2-АП-1, 2-АП-2, 2-АП-3)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85" name="TextBox 2"/>
          <p:cNvSpPr/>
          <p:nvPr/>
        </p:nvSpPr>
        <p:spPr>
          <a:xfrm>
            <a:off x="395280" y="1268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3"/>
          <a:stretch/>
        </p:blipFill>
        <p:spPr>
          <a:xfrm>
            <a:off x="509760" y="2217600"/>
            <a:ext cx="8383320" cy="343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"/>
          <p:cNvSpPr/>
          <p:nvPr/>
        </p:nvSpPr>
        <p:spPr>
          <a:xfrm>
            <a:off x="576360" y="87480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574560" y="1676520"/>
            <a:ext cx="8101080" cy="40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для привлеченных экспертов ПК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дения проверки в рамках установления правильности оценивания развернутых ответов апеллянта привлекаются эксперты ПК, которым в текущем году присвоены статусы ведущих экспертов ПК или старших экспертов ПК, а также имеющие опыт первой, второй и третьей проверок в текущем году и не проверявшие ранее ЭР апеллянтов, в том числе председатели ПК.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установления правильности оценивания ЭР апеллянта в рамках рассмотрения апелляции о несогласии с выставленными баллами может быть привлечен председатель ПК при условии, что он не проверял раннее ЭР апеллянта при проведении первой, второй, третьей проверок.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 рассмотрении апелляций о несогласии с выставленными баллами эксперты ПК должны: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 от председателей ПК апелляционный комплект документов;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 правильность оценивания развернутых ответов апеллянтов до заседания АК, а также проанализировать предыдущее оценивание развернутых ответов;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письменные заключения о правильности оценивания развернутых ответов или о необходимости изменения первичных баллов за выполнение заданий с развернутым ответом с обязательной содержательной аргументацией и указанием на конкретный критерий оценивания, содержанию которого соответствует выставляемый ими первичный балл;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93" name="TextBox 2"/>
          <p:cNvSpPr/>
          <p:nvPr/>
        </p:nvSpPr>
        <p:spPr>
          <a:xfrm>
            <a:off x="395280" y="1268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4" name="TextBox 3"/>
          <p:cNvSpPr/>
          <p:nvPr/>
        </p:nvSpPr>
        <p:spPr>
          <a:xfrm>
            <a:off x="611280" y="1969920"/>
            <a:ext cx="835344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для привлеченных экспертов ПК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ся за консультацией к председателям ПК в случае возникновения затруднений в формулировании однозначного ответа о правильности оценивания развернутых ответов апеллянта;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у ответственного секретаря АК дату, место и время заседания АК      и прибыть в указанное время на заседании АК;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ь, что апелляция проходит в спокойной и доброжелательной обстановке;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возникновения у апеллянтов или у АК вопросов по оцениванию развернутых ответов дать соответствующие разъяснения.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сех этапах работы экспертам ПК запрещается иметь при себе средства связи, фото-, аудио- и видеоаппаратуру, копировать и выносить из помещений для работы ПК, ЭМ, критерии оценивания, протоколы проверки ЭР, а также разглашать информацию, содержащуюся в указанных материалах.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"/>
          <p:cNvSpPr/>
          <p:nvPr/>
        </p:nvSpPr>
        <p:spPr>
          <a:xfrm>
            <a:off x="395280" y="1268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3"/>
          <a:stretch/>
        </p:blipFill>
        <p:spPr>
          <a:xfrm>
            <a:off x="219240" y="1986120"/>
            <a:ext cx="8705520" cy="331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401" name="TextBox 2"/>
          <p:cNvSpPr/>
          <p:nvPr/>
        </p:nvSpPr>
        <p:spPr>
          <a:xfrm>
            <a:off x="395280" y="1268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02" name="Рисунок 3" descr=""/>
          <p:cNvPicPr/>
          <p:nvPr/>
        </p:nvPicPr>
        <p:blipFill>
          <a:blip r:embed="rId3"/>
          <a:stretch/>
        </p:blipFill>
        <p:spPr>
          <a:xfrm>
            <a:off x="468360" y="2473200"/>
            <a:ext cx="79930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405" name="TextBox 2"/>
          <p:cNvSpPr/>
          <p:nvPr/>
        </p:nvSpPr>
        <p:spPr>
          <a:xfrm>
            <a:off x="539640" y="836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06" name="Схема 4" descr=""/>
          <p:cNvPicPr/>
          <p:nvPr/>
        </p:nvPicPr>
        <p:blipFill>
          <a:blip r:embed="rId3"/>
          <a:stretch/>
        </p:blipFill>
        <p:spPr>
          <a:xfrm>
            <a:off x="36360" y="1609560"/>
            <a:ext cx="9041040" cy="2181240"/>
          </a:xfrm>
          <a:prstGeom prst="rect">
            <a:avLst/>
          </a:prstGeom>
          <a:ln w="0">
            <a:noFill/>
          </a:ln>
        </p:spPr>
      </p:pic>
      <p:pic>
        <p:nvPicPr>
          <p:cNvPr id="407" name="Схема 34" descr=""/>
          <p:cNvPicPr/>
          <p:nvPr/>
        </p:nvPicPr>
        <p:blipFill>
          <a:blip r:embed="rId4"/>
          <a:stretch/>
        </p:blipFill>
        <p:spPr>
          <a:xfrm>
            <a:off x="176040" y="3067200"/>
            <a:ext cx="8894880" cy="40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"/>
          <p:cNvSpPr/>
          <p:nvPr/>
        </p:nvSpPr>
        <p:spPr>
          <a:xfrm>
            <a:off x="539640" y="836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11" name="Схема 4" descr=""/>
          <p:cNvPicPr/>
          <p:nvPr/>
        </p:nvPicPr>
        <p:blipFill>
          <a:blip r:embed="rId3"/>
          <a:stretch/>
        </p:blipFill>
        <p:spPr>
          <a:xfrm>
            <a:off x="36360" y="2060640"/>
            <a:ext cx="9041040" cy="3260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"/>
          <p:cNvPicPr/>
          <p:nvPr/>
        </p:nvPicPr>
        <p:blipFill>
          <a:blip r:embed="rId3"/>
          <a:stretch/>
        </p:blipFill>
        <p:spPr>
          <a:xfrm>
            <a:off x="162000" y="1357200"/>
            <a:ext cx="8820000" cy="41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3" descr=""/>
          <p:cNvPicPr/>
          <p:nvPr/>
        </p:nvPicPr>
        <p:blipFill>
          <a:blip r:embed="rId3"/>
          <a:stretch/>
        </p:blipFill>
        <p:spPr>
          <a:xfrm>
            <a:off x="17640" y="0"/>
            <a:ext cx="5257800" cy="681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3" descr=""/>
          <p:cNvPicPr/>
          <p:nvPr/>
        </p:nvPicPr>
        <p:blipFill>
          <a:blip r:embed="rId3"/>
          <a:stretch/>
        </p:blipFill>
        <p:spPr>
          <a:xfrm>
            <a:off x="138240" y="92160"/>
            <a:ext cx="5556240" cy="6765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3" descr=""/>
          <p:cNvPicPr/>
          <p:nvPr/>
        </p:nvPicPr>
        <p:blipFill>
          <a:blip r:embed="rId3"/>
          <a:stretch/>
        </p:blipFill>
        <p:spPr>
          <a:xfrm>
            <a:off x="60480" y="-1440"/>
            <a:ext cx="5860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3" descr=""/>
          <p:cNvPicPr/>
          <p:nvPr/>
        </p:nvPicPr>
        <p:blipFill>
          <a:blip r:embed="rId3"/>
          <a:stretch/>
        </p:blipFill>
        <p:spPr>
          <a:xfrm>
            <a:off x="0" y="33480"/>
            <a:ext cx="5710320" cy="682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3" descr=""/>
          <p:cNvPicPr/>
          <p:nvPr/>
        </p:nvPicPr>
        <p:blipFill>
          <a:blip r:embed="rId3"/>
          <a:stretch/>
        </p:blipFill>
        <p:spPr>
          <a:xfrm>
            <a:off x="17640" y="23760"/>
            <a:ext cx="5089320" cy="683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4" descr=""/>
          <p:cNvPicPr/>
          <p:nvPr/>
        </p:nvPicPr>
        <p:blipFill>
          <a:blip r:embed="rId3"/>
          <a:stretch/>
        </p:blipFill>
        <p:spPr>
          <a:xfrm>
            <a:off x="85680" y="0"/>
            <a:ext cx="5181480" cy="683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432" name="TextBox 2"/>
          <p:cNvSpPr/>
          <p:nvPr/>
        </p:nvSpPr>
        <p:spPr>
          <a:xfrm>
            <a:off x="379440" y="157644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Оренбург, ул. Пушкинская, д. 24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 (3532) 77-47-31, 77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ea typeface="Times New Roman"/>
                <a:hlinkClick r:id="rId3"/>
              </a:rPr>
              <a:t>cro@mail.orb.ru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 защищенной эл. почты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-SEV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435" name="TextBox 2"/>
          <p:cNvSpPr/>
          <p:nvPr/>
        </p:nvSpPr>
        <p:spPr>
          <a:xfrm>
            <a:off x="395280" y="285264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"/>
          <p:cNvPicPr/>
          <p:nvPr/>
        </p:nvPicPr>
        <p:blipFill>
          <a:blip r:embed="rId3"/>
          <a:stretch/>
        </p:blipFill>
        <p:spPr>
          <a:xfrm>
            <a:off x="243000" y="1862280"/>
            <a:ext cx="8658000" cy="3133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2"/>
          <a:srcRect l="0" t="7484" r="0" b="0"/>
          <a:stretch/>
        </p:blipFill>
        <p:spPr>
          <a:xfrm>
            <a:off x="247680" y="1484280"/>
            <a:ext cx="8237520" cy="1081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"/>
          <p:cNvPicPr/>
          <p:nvPr/>
        </p:nvPicPr>
        <p:blipFill>
          <a:blip r:embed="rId3"/>
          <a:srcRect l="11689" t="0" r="3708" b="0"/>
          <a:stretch/>
        </p:blipFill>
        <p:spPr>
          <a:xfrm>
            <a:off x="2301840" y="3816360"/>
            <a:ext cx="6842160" cy="1944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"/>
          <p:cNvPicPr/>
          <p:nvPr/>
        </p:nvPicPr>
        <p:blipFill>
          <a:blip r:embed="rId4"/>
          <a:stretch/>
        </p:blipFill>
        <p:spPr>
          <a:xfrm>
            <a:off x="17640" y="2565360"/>
            <a:ext cx="2466720" cy="4422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sp>
        <p:nvSpPr>
          <p:cNvPr id="351" name="TextBox 2"/>
          <p:cNvSpPr/>
          <p:nvPr/>
        </p:nvSpPr>
        <p:spPr>
          <a:xfrm>
            <a:off x="468360" y="105264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ая база работы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2" name="Рисунок 3" descr=""/>
          <p:cNvPicPr/>
          <p:nvPr/>
        </p:nvPicPr>
        <p:blipFill>
          <a:blip r:embed="rId2"/>
          <a:srcRect l="18945" t="0" r="0" b="461"/>
          <a:stretch/>
        </p:blipFill>
        <p:spPr>
          <a:xfrm>
            <a:off x="2692440" y="2349360"/>
            <a:ext cx="3759120" cy="4508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55" name="TextBox 2"/>
          <p:cNvSpPr/>
          <p:nvPr/>
        </p:nvSpPr>
        <p:spPr>
          <a:xfrm>
            <a:off x="815040" y="1341360"/>
            <a:ext cx="742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апелляционной комиссии в 2025 году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6" name="TextBox 3"/>
          <p:cNvSpPr/>
          <p:nvPr/>
        </p:nvSpPr>
        <p:spPr>
          <a:xfrm>
            <a:off x="324000" y="1900080"/>
            <a:ext cx="835164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формирования и структура АК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 algn="just">
              <a:lnSpc>
                <a:spcPct val="107000"/>
              </a:lnSpc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АК должен соответствовать требованиям пункта 36 Порядка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 algn="just">
              <a:lnSpc>
                <a:spcPct val="107000"/>
              </a:lnSpc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 состоит из председателя АК, заместителя председателя АК, ответственного секретаря АК, членов АК, имеющих равное право голоса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 algn="just">
              <a:lnSpc>
                <a:spcPct val="107000"/>
              </a:lnSpc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й состав АК определяется приказом министерства образования с указанием председателя, заместителя председателя, ответственного секретаря и членов АК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 algn="just">
              <a:lnSpc>
                <a:spcPct val="107000"/>
              </a:lnSpc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 создается сроком на один календарный год. Срок осуществления АК функций и организационных задач исчисляются с даты издания приказа министерства образования об утверждении персонального состава АК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 algn="just">
              <a:lnSpc>
                <a:spcPct val="107000"/>
              </a:lnSpc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персонального состава АК производится с соблюдением требований, предусмотренных пунктом 36 Порядка. При этом срок осуществления функций и организационных задач новым членом АК ограничивается сроком осуществления функций и организационных задач АК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2"/>
          <p:cNvSpPr/>
          <p:nvPr/>
        </p:nvSpPr>
        <p:spPr>
          <a:xfrm>
            <a:off x="395280" y="1268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3"/>
          <a:stretch/>
        </p:blipFill>
        <p:spPr>
          <a:xfrm>
            <a:off x="306360" y="2567160"/>
            <a:ext cx="8677440" cy="1006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"/>
          <p:cNvPicPr/>
          <p:nvPr/>
        </p:nvPicPr>
        <p:blipFill>
          <a:blip r:embed="rId4"/>
          <a:srcRect l="3887" t="6112" r="1231" b="6760"/>
          <a:stretch/>
        </p:blipFill>
        <p:spPr>
          <a:xfrm>
            <a:off x="307800" y="3716280"/>
            <a:ext cx="8317080" cy="151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2"/>
          <p:cNvSpPr/>
          <p:nvPr/>
        </p:nvSpPr>
        <p:spPr>
          <a:xfrm>
            <a:off x="395280" y="1268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5" name="TextBox 2"/>
          <p:cNvSpPr/>
          <p:nvPr/>
        </p:nvSpPr>
        <p:spPr>
          <a:xfrm>
            <a:off x="828720" y="2133720"/>
            <a:ext cx="792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елляцию о нарушении Порядка участник подает  в день проведения экзамена по соответствующему учебному предмету члену ГЭК, не покидая ППЭ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Апелляция о несогласии с выставленными баллами подается в течение двух рабочих дней, следующим за официальным днем объявления результатов ГИА по соответствующему учебному предмету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68" name="TextBox 2"/>
          <p:cNvSpPr/>
          <p:nvPr/>
        </p:nvSpPr>
        <p:spPr>
          <a:xfrm>
            <a:off x="395280" y="1268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3"/>
          <a:stretch/>
        </p:blipFill>
        <p:spPr>
          <a:xfrm>
            <a:off x="252360" y="2562120"/>
            <a:ext cx="8639280" cy="173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23T07:47:40Z</dcterms:created>
  <dc:creator>Юлия Мухамедшина</dc:creator>
  <dc:description/>
  <dc:language>en-US</dc:language>
  <cp:lastModifiedBy>Владимир Самочеляев</cp:lastModifiedBy>
  <dcterms:modified xsi:type="dcterms:W3CDTF">2025-04-03T09:45:54Z</dcterms:modified>
  <cp:revision>1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